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E805A-3628-4FB5-8FCA-39607D41B5F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DF4AC-0618-4A33-9757-874A852D68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1EEC6-1DD5-4DB1-AC32-0EBB694AB8F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F821D-E4D2-4C2F-B28D-B5FE90EAF5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9E059-B916-447E-BB46-292BEDB4A58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E4F1-C056-40C6-BCFA-70400D8A5A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42BC-345A-40CB-9FE3-88944E9E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B438-8E27-4420-A3D6-AAC9D1AF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D26C-53B4-419A-9C6B-F8FD73551D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79FD-D5FB-4DE2-8C78-4D5930FC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C4C2-10DE-4914-B2AF-0BB2F76F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FA4F-650E-41A9-BAD0-BA312387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4C3C-9482-4BD4-B888-0E827A51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9A34-3C01-48B9-9599-4D1040F8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4A8E-452F-4BA2-9C8B-1BFDDB67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D3AA-22BA-49D2-A77E-08C72A21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8E50-C1AF-43F7-B6D7-D9FB2773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BDC842-F290-4155-8804-598BAA829122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FECUND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ecund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1260360" y="1204920"/>
            <a:ext cx="2849760" cy="311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5791320" y="1565280"/>
            <a:ext cx="2849400" cy="311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3600360" y="3743280"/>
            <a:ext cx="2849760" cy="311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395280" y="1989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produc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oli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716360" y="1125360"/>
            <a:ext cx="208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s llegar el polen al estigma, se forma el tubo polínico que crece por el estilo hasta llegar al ov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588000" y="4941720"/>
            <a:ext cx="23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gametos masculinos descienden por el tubo polínico hasta el ovario, y se produce la fecunda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1835280" y="4869000"/>
            <a:ext cx="12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meto femen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 flipV="1">
            <a:off x="2871720" y="4770360"/>
            <a:ext cx="164628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411280" y="5589720"/>
            <a:ext cx="12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metos masculi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9"/>
          <p:cNvSpPr/>
          <p:nvPr/>
        </p:nvSpPr>
        <p:spPr>
          <a:xfrm flipV="1">
            <a:off x="3456000" y="5217840"/>
            <a:ext cx="122400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 flipV="1">
            <a:off x="3456000" y="5017680"/>
            <a:ext cx="1060560" cy="7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 flipV="1">
            <a:off x="3456000" y="5492880"/>
            <a:ext cx="122400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4572000" y="314172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ubo polín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 flipV="1">
            <a:off x="5897520" y="3057480"/>
            <a:ext cx="13017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24"/>
          <p:cNvSpPr/>
          <p:nvPr/>
        </p:nvSpPr>
        <p:spPr>
          <a:xfrm flipH="1">
            <a:off x="5521320" y="3438360"/>
            <a:ext cx="6984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7451640" y="765000"/>
            <a:ext cx="12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 flipH="1">
            <a:off x="7451280" y="1042920"/>
            <a:ext cx="26028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27"/>
          <p:cNvSpPr/>
          <p:nvPr/>
        </p:nvSpPr>
        <p:spPr>
          <a:xfrm>
            <a:off x="7064280" y="3635280"/>
            <a:ext cx="835200" cy="835200"/>
          </a:xfrm>
          <a:prstGeom prst="ellipse">
            <a:avLst/>
          </a:prstGeom>
          <a:noFill/>
          <a:ln w="18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28"/>
          <p:cNvSpPr/>
          <p:nvPr/>
        </p:nvSpPr>
        <p:spPr>
          <a:xfrm flipH="1">
            <a:off x="5850000" y="4307040"/>
            <a:ext cx="1295280" cy="593640"/>
          </a:xfrm>
          <a:prstGeom prst="line">
            <a:avLst/>
          </a:prstGeom>
          <a:ln w="18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30 CuadroTexto"/>
          <p:cNvSpPr/>
          <p:nvPr/>
        </p:nvSpPr>
        <p:spPr>
          <a:xfrm>
            <a:off x="611280" y="1557360"/>
            <a:ext cx="288720" cy="337320"/>
          </a:xfrm>
          <a:prstGeom prst="rect">
            <a:avLst/>
          </a:pr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31 CuadroTexto"/>
          <p:cNvSpPr/>
          <p:nvPr/>
        </p:nvSpPr>
        <p:spPr>
          <a:xfrm>
            <a:off x="4788000" y="765000"/>
            <a:ext cx="288720" cy="337320"/>
          </a:xfrm>
          <a:prstGeom prst="rect">
            <a:avLst/>
          </a:pr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32 CuadroTexto"/>
          <p:cNvSpPr/>
          <p:nvPr/>
        </p:nvSpPr>
        <p:spPr>
          <a:xfrm>
            <a:off x="6875640" y="4581360"/>
            <a:ext cx="288720" cy="337320"/>
          </a:xfrm>
          <a:prstGeom prst="rect">
            <a:avLst/>
          </a:pr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3:51Z</dcterms:modified>
  <cp:revision>47</cp:revision>
  <dc:subject/>
  <dc:title>Diapositiva 1</dc:title>
</cp:coreProperties>
</file>